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E02-E9D5-4F00-BDCB-9009F05A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6DB-0EE7-440F-B29E-CEA7A453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D32-2CCE-41B1-A702-D530EF3C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B7C-4D02-417B-A8D4-5622C0B0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885-C9F5-4B76-8FC4-0FD76FC8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D48-BAA5-4048-BB04-1BB95DA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9C1-1A2C-43B2-9884-B8544FE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B8F-F2CD-4D12-BAB2-B72E9B60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240-F0B3-4D5D-92C1-5CBF86D9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889-C464-453A-A30B-E370CF0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498-1779-4714-AE5D-48B954C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C86-B42D-4570-9DE9-6248D77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D0C-1DBE-4A85-8C89-618019C3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1644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L. Hughes, J. Bao, Z.-L. Hu, V. Honavar, J.M. Re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Iow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4446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nimal Trait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0040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oject for the Creation of a Unified Trait Vocabulary for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group to develop an Animal Trait Ontology (A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rait information for the pig, chicken, cow, and other farm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effort between the ATO and other species ontology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atabase that will allow the linkage of the trait information for each species stored in the ontology to its qtl/gene expression/proteom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87320" y="0"/>
            <a:ext cx="5613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48000"/>
            <a:ext cx="9144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ectiou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abol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4344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Interactions between traits or traits belonging to different group : Thigh meat / bone ratio;meat color adjusted for body wei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Mammalian Phenotype Ontology (MGI website) not suitable for production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48000"/>
            <a:ext cx="914400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arcass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a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abolic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u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48000"/>
            <a:ext cx="91440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% 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 / B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a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age can b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dependently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rators c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urrently 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ntology on different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can be onl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artially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ccess privileges can be contro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packag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ant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eractions are minim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miting term and axiom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56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llaborative Ontology Building (COB) Ed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-collaborative Ontology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flipH="1">
            <a:off x="1523520" y="1752480"/>
            <a:ext cx="669960" cy="64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79840" y="182880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79840" y="19432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cal E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9880" y="244944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ingle cur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3886200"/>
            <a:ext cx="2730240" cy="2324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2880000">
            <a:off x="3966120" y="235836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8849000">
            <a:off x="5947560" y="235800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93760" y="6137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ég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92200" y="6083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BO-Ed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dular Ontology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1676520"/>
            <a:ext cx="8286840" cy="4711680"/>
            <a:chOff x="457200" y="1676520"/>
            <a:chExt cx="8286840" cy="4711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7389720" y="4483080"/>
              <a:ext cx="1354320" cy="16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7543800" y="18288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57200" y="1676520"/>
              <a:ext cx="13143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6880" y="32004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960" y="601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920" y="601992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98600" y="32004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259092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486400" y="3505320"/>
              <a:ext cx="1905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676520" y="4038480"/>
              <a:ext cx="1981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419720" y="2362320"/>
              <a:ext cx="3124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5257800"/>
              <a:ext cx="472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ch group works on an ontology module for a particular species (according to the group’s best experti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14600" y="1447920"/>
            <a:ext cx="4435560" cy="3524040"/>
            <a:chOff x="2514600" y="1447920"/>
            <a:chExt cx="4435560" cy="3524040"/>
          </a:xfrm>
        </p:grpSpPr>
        <p:grpSp>
          <p:nvGrpSpPr>
            <p:cNvPr id="185" name=""/>
            <p:cNvGrpSpPr/>
            <p:nvPr/>
          </p:nvGrpSpPr>
          <p:grpSpPr>
            <a:xfrm>
              <a:off x="2514600" y="1447920"/>
              <a:ext cx="4435560" cy="3524040"/>
              <a:chOff x="2514600" y="1447920"/>
              <a:chExt cx="4435560" cy="35240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19520"/>
                <a:ext cx="38098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590920" y="1447920"/>
                <a:ext cx="435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borative building of an animal trait ontology that involves multiple research groups across the wor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5268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388620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31240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sted package is a part of another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used to represent the organizational structure of an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hierarchical management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2995560"/>
            <a:ext cx="963720" cy="936720"/>
            <a:chOff x="685800" y="2995560"/>
            <a:chExt cx="963720" cy="936720"/>
          </a:xfrm>
        </p:grpSpPr>
        <p:sp>
          <p:nvSpPr>
            <p:cNvPr id="194" name=""/>
            <p:cNvSpPr/>
            <p:nvPr/>
          </p:nvSpPr>
          <p:spPr>
            <a:xfrm>
              <a:off x="685800" y="2995560"/>
              <a:ext cx="963720" cy="374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9000" y="337032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9000" y="3745080"/>
              <a:ext cx="300240" cy="187200"/>
            </a:xfrm>
            <a:prstGeom prst="rightArrow">
              <a:avLst>
                <a:gd name="adj1" fmla="val 50000"/>
                <a:gd name="adj2" fmla="val 4009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397240" y="4413240"/>
            <a:ext cx="1108080" cy="374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宋体"/>
              </a:rPr>
              <a:t>Pig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3664080"/>
            <a:ext cx="965160" cy="1030320"/>
            <a:chOff x="1590840" y="3664080"/>
            <a:chExt cx="965160" cy="1030320"/>
          </a:xfrm>
        </p:grpSpPr>
        <p:sp>
          <p:nvSpPr>
            <p:cNvPr id="199" name=""/>
            <p:cNvSpPr/>
            <p:nvPr/>
          </p:nvSpPr>
          <p:spPr>
            <a:xfrm>
              <a:off x="1590840" y="3664080"/>
              <a:ext cx="965160" cy="37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P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4040" y="413244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4040" y="4506840"/>
              <a:ext cx="301320" cy="187560"/>
            </a:xfrm>
            <a:prstGeom prst="rightArrow">
              <a:avLst>
                <a:gd name="adj1" fmla="val 50000"/>
                <a:gd name="adj2" fmla="val 401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79160" y="23590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宋体"/>
              </a:rPr>
              <a:t>Animal trait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ckage N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919960" y="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The COB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09480"/>
            <a:ext cx="16002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07196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41000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19680" y="7984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g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0040" y="4006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tl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8880" y="4397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ke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4191120"/>
            <a:ext cx="8763120" cy="1981080"/>
            <a:chOff x="0" y="4191120"/>
            <a:chExt cx="8763120" cy="1981080"/>
          </a:xfrm>
        </p:grpSpPr>
        <p:sp>
          <p:nvSpPr>
            <p:cNvPr id="215" name=""/>
            <p:cNvSpPr/>
            <p:nvPr/>
          </p:nvSpPr>
          <p:spPr>
            <a:xfrm>
              <a:off x="2133720" y="41911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480" y="44197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42670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53280" y="44956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029200"/>
              <a:ext cx="114300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lood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388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mone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3800" y="510552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180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2280" y="2666880"/>
            <a:ext cx="8686800" cy="1828800"/>
            <a:chOff x="152280" y="2666880"/>
            <a:chExt cx="8686800" cy="1828800"/>
          </a:xfrm>
        </p:grpSpPr>
        <p:sp>
          <p:nvSpPr>
            <p:cNvPr id="224" name=""/>
            <p:cNvSpPr/>
            <p:nvPr/>
          </p:nvSpPr>
          <p:spPr>
            <a:xfrm flipH="1">
              <a:off x="533520" y="2895480"/>
              <a:ext cx="4572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2743200"/>
              <a:ext cx="6094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05320" y="2666880"/>
              <a:ext cx="7617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2666880"/>
              <a:ext cx="838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81320" y="2743200"/>
              <a:ext cx="7621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666880"/>
              <a:ext cx="6094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r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429000"/>
              <a:ext cx="12956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02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tho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35053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120" y="3505320"/>
              <a:ext cx="1218960" cy="990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i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280" y="3429000"/>
              <a:ext cx="10670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304920"/>
            <a:ext cx="1143000" cy="9144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2120" y="1219320"/>
            <a:ext cx="7391160" cy="1752480"/>
            <a:chOff x="762120" y="1219320"/>
            <a:chExt cx="7391160" cy="1752480"/>
          </a:xfrm>
        </p:grpSpPr>
        <p:sp>
          <p:nvSpPr>
            <p:cNvPr id="238" name=""/>
            <p:cNvSpPr/>
            <p:nvPr/>
          </p:nvSpPr>
          <p:spPr>
            <a:xfrm>
              <a:off x="4191120" y="1219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1219320"/>
              <a:ext cx="32763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95280" y="1219320"/>
              <a:ext cx="28958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1981080"/>
              <a:ext cx="121932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2057400"/>
              <a:ext cx="12952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20574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105520" y="4343400"/>
            <a:ext cx="1295280" cy="1828800"/>
            <a:chOff x="5105520" y="4343400"/>
            <a:chExt cx="1295280" cy="1828800"/>
          </a:xfrm>
        </p:grpSpPr>
        <p:sp>
          <p:nvSpPr>
            <p:cNvPr id="245" name=""/>
            <p:cNvSpPr/>
            <p:nvPr/>
          </p:nvSpPr>
          <p:spPr>
            <a:xfrm>
              <a:off x="5257800" y="44197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790960" y="4343400"/>
              <a:ext cx="5331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5105520"/>
              <a:ext cx="1295280" cy="10666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426840" y="6110280"/>
            <a:ext cx="2684520" cy="740160"/>
            <a:chOff x="3426840" y="6110280"/>
            <a:chExt cx="2684520" cy="740160"/>
          </a:xfrm>
        </p:grpSpPr>
        <p:cxnSp>
          <p:nvCxnSpPr>
            <p:cNvPr id="251" name=""/>
            <p:cNvCxnSpPr>
              <a:stCxn id="222" idx="4"/>
              <a:endCxn id="247" idx="4"/>
            </p:cNvCxnSpPr>
            <p:nvPr/>
          </p:nvCxnSpPr>
          <p:spPr>
            <a:xfrm flipH="1" rot="16200000">
              <a:off x="4628160" y="5062320"/>
              <a:ext cx="76680" cy="2172600"/>
            </a:xfrm>
            <a:prstGeom prst="curvedConnector5">
              <a:avLst>
                <a:gd name="adj1" fmla="val 383018"/>
                <a:gd name="adj2" fmla="val 50000"/>
                <a:gd name="adj3" fmla="val 383018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426840" y="6451560"/>
              <a:ext cx="268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netic Corre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unified vocabulary for farm animals phenotyp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 Editor provides the necessary tool to collaboratively build well-structured, large-scale, biomedical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order ontology terms that link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73640" y="3049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819520"/>
            <a:ext cx="289584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IU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acey Me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onathan Be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23984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nger Instit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ean Humph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Carol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ane 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135320"/>
            <a:ext cx="2895480" cy="12852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DA-MAR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Gary Ro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819520"/>
            <a:ext cx="289548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pt. of Animal Sci., 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x Roths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Eric Ryan Fr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13532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C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vetlana Drach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Donna Mag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Wonhee J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3760" y="565452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Provided by USDA-CS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82880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 got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ve Ontology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Trait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203040"/>
          <a:ext cx="754380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"/>
                    <a:ext cx="75438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17760" y="0"/>
            <a:ext cx="61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31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786760" cy="344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4267080" y="3429000"/>
            <a:ext cx="24012360" cy="173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8915400" y="5105520"/>
            <a:ext cx="1805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5920" y="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46200" y="1193760"/>
            <a:ext cx="2614680" cy="5666760"/>
            <a:chOff x="2446200" y="1193760"/>
            <a:chExt cx="2614680" cy="5666760"/>
          </a:xfrm>
        </p:grpSpPr>
        <p:sp>
          <p:nvSpPr>
            <p:cNvPr id="70" name=""/>
            <p:cNvSpPr/>
            <p:nvPr/>
          </p:nvSpPr>
          <p:spPr>
            <a:xfrm>
              <a:off x="2476440" y="1193760"/>
              <a:ext cx="2584440" cy="5143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8040" y="1735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3800" y="22384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5200" y="22384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62400" y="223848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91000" y="238284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9600" y="18082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196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28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0480" y="49021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5120" y="48308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67280" y="43988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266920" y="2114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2495520" y="2330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737080" y="23684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2952720" y="229212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3156120" y="23428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A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3384720" y="1758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3165480" y="4822200"/>
              <a:ext cx="13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CARC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3791160" y="52131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4552920" y="4425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4070520" y="499680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4324320" y="5187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3600" y="6340320"/>
              <a:ext cx="74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ody tr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54600" y="1219320"/>
              <a:ext cx="179280" cy="179280"/>
              <a:chOff x="4854600" y="1219320"/>
              <a:chExt cx="179280" cy="179280"/>
            </a:xfrm>
          </p:grpSpPr>
          <p:sp>
            <p:nvSpPr>
              <p:cNvPr id="95" name=""/>
              <p:cNvSpPr/>
              <p:nvPr/>
            </p:nvSpPr>
            <p:spPr>
              <a:xfrm>
                <a:off x="485460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4854600" y="1219320"/>
                <a:ext cx="179280" cy="179280"/>
                <a:chOff x="4854600" y="1219320"/>
                <a:chExt cx="179280" cy="179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87008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485460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" name=""/>
          <p:cNvGrpSpPr/>
          <p:nvPr/>
        </p:nvGrpSpPr>
        <p:grpSpPr>
          <a:xfrm>
            <a:off x="4997520" y="1193760"/>
            <a:ext cx="1092240" cy="5666760"/>
            <a:chOff x="4997520" y="1193760"/>
            <a:chExt cx="1092240" cy="5666760"/>
          </a:xfrm>
        </p:grpSpPr>
        <p:sp>
          <p:nvSpPr>
            <p:cNvPr id="100" name=""/>
            <p:cNvSpPr/>
            <p:nvPr/>
          </p:nvSpPr>
          <p:spPr>
            <a:xfrm>
              <a:off x="5099040" y="1193760"/>
              <a:ext cx="933480" cy="514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84880" y="34624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62440" y="44704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72320" y="34480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187960" y="43624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6340320"/>
              <a:ext cx="109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ectious 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819760" y="1219320"/>
              <a:ext cx="179280" cy="179280"/>
              <a:chOff x="5819760" y="1219320"/>
              <a:chExt cx="179280" cy="179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819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5819760" y="1219320"/>
                <a:ext cx="179280" cy="179280"/>
                <a:chOff x="5819760" y="1219320"/>
                <a:chExt cx="179280" cy="179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835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5819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" name=""/>
          <p:cNvGrpSpPr/>
          <p:nvPr/>
        </p:nvGrpSpPr>
        <p:grpSpPr>
          <a:xfrm>
            <a:off x="6064200" y="1193760"/>
            <a:ext cx="1333440" cy="5666760"/>
            <a:chOff x="6064200" y="1193760"/>
            <a:chExt cx="1333440" cy="5666760"/>
          </a:xfrm>
        </p:grpSpPr>
        <p:sp>
          <p:nvSpPr>
            <p:cNvPr id="112" name=""/>
            <p:cNvSpPr/>
            <p:nvPr/>
          </p:nvSpPr>
          <p:spPr>
            <a:xfrm>
              <a:off x="6089760" y="1193760"/>
              <a:ext cx="1301760" cy="51436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16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02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788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74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60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5899320" y="307908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1405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6301080" y="3057480"/>
              <a:ext cx="77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Wt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65977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6838920" y="30924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4200" y="6340320"/>
              <a:ext cx="133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production 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178760" y="1219320"/>
              <a:ext cx="179280" cy="179280"/>
              <a:chOff x="7178760" y="1219320"/>
              <a:chExt cx="179280" cy="179280"/>
            </a:xfrm>
          </p:grpSpPr>
          <p:sp>
            <p:nvSpPr>
              <p:cNvPr id="125" name=""/>
              <p:cNvSpPr/>
              <p:nvPr/>
            </p:nvSpPr>
            <p:spPr>
              <a:xfrm>
                <a:off x="7178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178760" y="1219320"/>
                <a:ext cx="179280" cy="179280"/>
                <a:chOff x="7178760" y="1219320"/>
                <a:chExt cx="179280" cy="179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194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7178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003320" y="826920"/>
            <a:ext cx="1879560" cy="5516640"/>
            <a:chOff x="1003320" y="826920"/>
            <a:chExt cx="1879560" cy="551664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rcRect l="1969" t="4218" r="81371" b="1687"/>
            <a:stretch/>
          </p:blipFill>
          <p:spPr>
            <a:xfrm>
              <a:off x="1266840" y="1174680"/>
              <a:ext cx="117468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03320" y="826920"/>
              <a:ext cx="18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icken Ch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1639800"/>
            <a:ext cx="12573000" cy="98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1:22:20Z</dcterms:created>
  <dc:creator>laron</dc:creator>
  <dc:description/>
  <dc:language>en-US</dc:language>
  <cp:lastModifiedBy>Jreecy</cp:lastModifiedBy>
  <dcterms:modified xsi:type="dcterms:W3CDTF">2006-12-01T18:18:19Z</dcterms:modified>
  <cp:revision>6</cp:revision>
  <dc:subject/>
  <dc:title>Slide 1</dc:title>
</cp:coreProperties>
</file>